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type.wav" ContentType="audio/x-wav"/>
  <Override PartName="/ppt/media/image17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4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19T16:17:33.409000000" idx="1">
    <p:pos x="1479" y="628"/>
    <p:text/>
  </p:cm>
</p:cmLst>
</file>

<file path=ppt/comments/comment19.xml><?xml version="1.0" encoding="utf-8"?>
<p:cmLst xmlns:p="http://schemas.openxmlformats.org/presentationml/2006/main">
  <p:cm authorId="0" dt="2016-08-19T16:17:39.300000000" idx="2">
    <p:pos x="5099" y="4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900-B746-4570-B224-B04AD97345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F28-E205-465F-BDC7-E3C4FD5F53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83D-C298-4CE3-86E9-C5A6A4A2BA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276720" y="3429000"/>
            <a:ext cx="47512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24080" y="263700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混合运算（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739880" y="2852640"/>
            <a:ext cx="62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=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填上合适的运算符号及小括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等式成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9"/>
          <p:cNvSpPr/>
          <p:nvPr/>
        </p:nvSpPr>
        <p:spPr>
          <a:xfrm>
            <a:off x="1332000" y="2349360"/>
            <a:ext cx="69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使等式成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号左右两边必须相等才行。左边的三个数字中已有数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乘法口诀可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×8=3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要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存在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关的运算等式就成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3=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面是乘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想先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3=8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必须使用小括号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括起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原式变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×(5+3)=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7"/>
          <p:cNvSpPr/>
          <p:nvPr/>
        </p:nvSpPr>
        <p:spPr>
          <a:xfrm>
            <a:off x="2843280" y="3068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×(5+3)=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 rot="18297600">
            <a:off x="6600600" y="3546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9"/>
          <p:cNvSpPr/>
          <p:nvPr/>
        </p:nvSpPr>
        <p:spPr>
          <a:xfrm>
            <a:off x="2050920" y="177336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丽读一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的故事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经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剩下的打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读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天应读多少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300480" y="3516480"/>
            <a:ext cx="259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0-36÷3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80-12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68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页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天应读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6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页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9"/>
          <p:cNvSpPr/>
          <p:nvPr/>
        </p:nvSpPr>
        <p:spPr>
          <a:xfrm>
            <a:off x="1503360" y="256536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剩下的每天读多少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用书的总页数减去已读的页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剩下的页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用剩下的页数除以天数。错解中主要错在列式错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用小括号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-3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括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5"/>
          <p:cNvSpPr/>
          <p:nvPr/>
        </p:nvSpPr>
        <p:spPr>
          <a:xfrm rot="18297600">
            <a:off x="5040360" y="4658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5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6" name="矩形 20"/>
          <p:cNvSpPr/>
          <p:nvPr/>
        </p:nvSpPr>
        <p:spPr>
          <a:xfrm rot="18297600">
            <a:off x="4873680" y="2249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2876400" y="389268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80-36)÷3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44÷3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8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页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天应读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2216160" y="1725480"/>
            <a:ext cx="259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0-36÷3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80-12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68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页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天应读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6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页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5"/>
          <p:cNvSpPr/>
          <p:nvPr/>
        </p:nvSpPr>
        <p:spPr>
          <a:xfrm>
            <a:off x="758880" y="238752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正确答案的序号填在括号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×(32-18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最后一步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积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差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80-43)÷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最后一步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F:\七彩课堂插图板式封面\排版用图标、页眉页脚\标题jpg\读读比比.jpg"/>
          <p:cNvPicPr/>
          <p:nvPr/>
        </p:nvPicPr>
        <p:blipFill>
          <a:blip r:embed="rId1"/>
          <a:srcRect l="16272" t="13742" r="0" b="0"/>
          <a:stretch/>
        </p:blipFill>
        <p:spPr>
          <a:xfrm>
            <a:off x="6496200" y="852480"/>
            <a:ext cx="2170080" cy="1563840"/>
          </a:xfrm>
          <a:prstGeom prst="rect">
            <a:avLst/>
          </a:prstGeom>
          <a:ln w="0">
            <a:noFill/>
          </a:ln>
        </p:spPr>
      </p:pic>
      <p:sp>
        <p:nvSpPr>
          <p:cNvPr id="181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0" descr="kt140"/>
          <p:cNvPicPr/>
          <p:nvPr/>
        </p:nvPicPr>
        <p:blipFill>
          <a:blip r:embed="rId2"/>
          <a:stretch/>
        </p:blipFill>
        <p:spPr>
          <a:xfrm>
            <a:off x="252360" y="4941720"/>
            <a:ext cx="1438200" cy="1362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7020000" y="285264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020000" y="386064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4"/>
          <p:cNvSpPr/>
          <p:nvPr/>
        </p:nvSpPr>
        <p:spPr>
          <a:xfrm>
            <a:off x="971640" y="1989000"/>
            <a:ext cx="712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下面每组的两个算式写成一个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189-93=96      96÷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45+36=81     5×81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64×3=192    200-192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547640" y="28814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 189-93)÷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411280" y="39132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+3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468520" y="5084640"/>
            <a:ext cx="32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-64×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1525680" y="2492280"/>
            <a:ext cx="628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75+15)÷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×(798-78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÷3+8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6+54)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43"/>
          <p:cNvSpPr/>
          <p:nvPr/>
        </p:nvSpPr>
        <p:spPr>
          <a:xfrm>
            <a:off x="755640" y="173988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87280" y="177336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兰看一本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276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页的故事书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已经看了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196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页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剩下的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看完。平均每天看多少页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5"/>
          <p:cNvSpPr/>
          <p:nvPr/>
        </p:nvSpPr>
        <p:spPr>
          <a:xfrm>
            <a:off x="3276720" y="3568680"/>
            <a:ext cx="35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76-19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0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页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41688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主动参与探索算理、算法的过程，感受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924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进行混合运算和解决简单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将分步计算改写成带括号的两级混合运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87280" y="1747800"/>
            <a:ext cx="6985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一双运动鞋后，用剩下的钱买袜子，可以买几双袜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AF107.EPS" descr="id:2147507933;FounderCES"/>
          <p:cNvPicPr/>
          <p:nvPr/>
        </p:nvPicPr>
        <p:blipFill>
          <a:blip r:embed="rId1"/>
          <a:stretch/>
        </p:blipFill>
        <p:spPr>
          <a:xfrm>
            <a:off x="2771640" y="2584440"/>
            <a:ext cx="3888000" cy="1795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5"/>
          <p:cNvSpPr/>
          <p:nvPr/>
        </p:nvSpPr>
        <p:spPr>
          <a:xfrm>
            <a:off x="3267000" y="453708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5-7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0÷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12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AutoShape 27"/>
          <p:cNvSpPr/>
          <p:nvPr/>
        </p:nvSpPr>
        <p:spPr>
          <a:xfrm>
            <a:off x="5867280" y="1484280"/>
            <a:ext cx="2808360" cy="1152720"/>
          </a:xfrm>
          <a:prstGeom prst="wedgeRoundRectCallout">
            <a:avLst>
              <a:gd name="adj1" fmla="val -72541"/>
              <a:gd name="adj2" fmla="val 8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括号改变了运算顺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1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矩形 15"/>
          <p:cNvSpPr/>
          <p:nvPr/>
        </p:nvSpPr>
        <p:spPr>
          <a:xfrm>
            <a:off x="1209600" y="3933720"/>
            <a:ext cx="6703920" cy="119124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带小括号的两级混合运算的运算顺序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算小括号里面的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小括号外面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476360" y="2637000"/>
            <a:ext cx="259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÷8+20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557360" y="3305160"/>
            <a:ext cx="26179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+120÷2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644480" y="4141800"/>
            <a:ext cx="225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×9-8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94360" y="4159080"/>
            <a:ext cx="235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÷6+6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68720" y="2728800"/>
            <a:ext cx="2662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4+28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968720" y="3478320"/>
            <a:ext cx="234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-72÷4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65680" y="2637000"/>
            <a:ext cx="93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03840" y="3403440"/>
            <a:ext cx="93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45360" y="416088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284960" y="27288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773840" y="3549600"/>
            <a:ext cx="10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059600" y="35640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49280" y="1619280"/>
            <a:ext cx="4033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600360" y="414180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09760" y="1585800"/>
            <a:ext cx="66229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去买水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香蕉用去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用剩下的钱买橘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买几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K34.EPS" descr="id:2147508030;FounderCES"/>
          <p:cNvPicPr/>
          <p:nvPr/>
        </p:nvPicPr>
        <p:blipFill>
          <a:blip r:embed="rId1"/>
          <a:stretch/>
        </p:blipFill>
        <p:spPr>
          <a:xfrm>
            <a:off x="1959120" y="2816280"/>
            <a:ext cx="5524200" cy="224928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1"/>
          <p:cNvGrpSpPr/>
          <p:nvPr/>
        </p:nvGrpSpPr>
        <p:grpSpPr>
          <a:xfrm>
            <a:off x="2879640" y="4665600"/>
            <a:ext cx="5697720" cy="1871640"/>
            <a:chOff x="2879640" y="4665600"/>
            <a:chExt cx="5697720" cy="1871640"/>
          </a:xfrm>
        </p:grpSpPr>
        <p:sp>
          <p:nvSpPr>
            <p:cNvPr id="80" name="AutoShape 27"/>
            <p:cNvSpPr/>
            <p:nvPr/>
          </p:nvSpPr>
          <p:spPr>
            <a:xfrm>
              <a:off x="2879640" y="5591160"/>
              <a:ext cx="3744360" cy="496440"/>
            </a:xfrm>
            <a:prstGeom prst="wedgeRoundRectCallout">
              <a:avLst>
                <a:gd name="adj1" fmla="val 66541"/>
                <a:gd name="adj2" fmla="val -60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了解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5" descr="女孩1"/>
            <p:cNvPicPr/>
            <p:nvPr/>
          </p:nvPicPr>
          <p:blipFill>
            <a:blip r:embed="rId2"/>
            <a:stretch/>
          </p:blipFill>
          <p:spPr>
            <a:xfrm>
              <a:off x="7066440" y="4665600"/>
              <a:ext cx="151092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2130480" y="2666880"/>
            <a:ext cx="21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-22=28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÷4=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52"/>
          <p:cNvGrpSpPr/>
          <p:nvPr/>
        </p:nvGrpSpPr>
        <p:grpSpPr>
          <a:xfrm>
            <a:off x="428760" y="1755720"/>
            <a:ext cx="4031640" cy="2114280"/>
            <a:chOff x="428760" y="1755720"/>
            <a:chExt cx="4031640" cy="2114280"/>
          </a:xfrm>
        </p:grpSpPr>
        <p:sp>
          <p:nvSpPr>
            <p:cNvPr id="88" name="AutoShape 31"/>
            <p:cNvSpPr/>
            <p:nvPr/>
          </p:nvSpPr>
          <p:spPr>
            <a:xfrm>
              <a:off x="1660320" y="1755720"/>
              <a:ext cx="2800080" cy="575280"/>
            </a:xfrm>
            <a:prstGeom prst="wedgeRoundRectCallout">
              <a:avLst>
                <a:gd name="adj1" fmla="val -57944"/>
                <a:gd name="adj2" fmla="val 797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先算出还剩的钱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428760" y="2077920"/>
              <a:ext cx="132192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3"/>
          <p:cNvGrpSpPr/>
          <p:nvPr/>
        </p:nvGrpSpPr>
        <p:grpSpPr>
          <a:xfrm>
            <a:off x="5148360" y="716040"/>
            <a:ext cx="3657600" cy="2257200"/>
            <a:chOff x="5148360" y="716040"/>
            <a:chExt cx="3657600" cy="2257200"/>
          </a:xfrm>
        </p:grpSpPr>
        <p:sp>
          <p:nvSpPr>
            <p:cNvPr id="91" name="AutoShape 32"/>
            <p:cNvSpPr/>
            <p:nvPr/>
          </p:nvSpPr>
          <p:spPr>
            <a:xfrm>
              <a:off x="5148360" y="1177920"/>
              <a:ext cx="2406240" cy="496440"/>
            </a:xfrm>
            <a:prstGeom prst="wedgeRoundRectCallout">
              <a:avLst>
                <a:gd name="adj1" fmla="val 58597"/>
                <a:gd name="adj2" fmla="val 7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我写成了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410600" y="716040"/>
              <a:ext cx="1395360" cy="22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54"/>
          <p:cNvGrpSpPr/>
          <p:nvPr/>
        </p:nvGrpSpPr>
        <p:grpSpPr>
          <a:xfrm>
            <a:off x="4614840" y="3332160"/>
            <a:ext cx="4054320" cy="1957320"/>
            <a:chOff x="4614840" y="3332160"/>
            <a:chExt cx="4054320" cy="1957320"/>
          </a:xfrm>
        </p:grpSpPr>
        <p:sp>
          <p:nvSpPr>
            <p:cNvPr id="94" name="AutoShape 34"/>
            <p:cNvSpPr/>
            <p:nvPr/>
          </p:nvSpPr>
          <p:spPr>
            <a:xfrm>
              <a:off x="4614840" y="3625920"/>
              <a:ext cx="2700360" cy="575280"/>
            </a:xfrm>
            <a:prstGeom prst="wedgeRoundRectCallout">
              <a:avLst>
                <a:gd name="adj1" fmla="val 59476"/>
                <a:gd name="adj2" fmla="val 3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要想先算减法，就要添加小括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42" descr="13"/>
            <p:cNvPicPr/>
            <p:nvPr/>
          </p:nvPicPr>
          <p:blipFill>
            <a:blip r:embed="rId3"/>
            <a:stretch/>
          </p:blipFill>
          <p:spPr>
            <a:xfrm>
              <a:off x="7383240" y="333216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19"/>
          <p:cNvSpPr/>
          <p:nvPr/>
        </p:nvSpPr>
        <p:spPr>
          <a:xfrm>
            <a:off x="4686840" y="4829040"/>
            <a:ext cx="21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-2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8÷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45"/>
          <p:cNvGrpSpPr/>
          <p:nvPr/>
        </p:nvGrpSpPr>
        <p:grpSpPr>
          <a:xfrm>
            <a:off x="585720" y="4309920"/>
            <a:ext cx="3483000" cy="1622520"/>
            <a:chOff x="585720" y="4309920"/>
            <a:chExt cx="3483000" cy="1622520"/>
          </a:xfrm>
        </p:grpSpPr>
        <p:sp>
          <p:nvSpPr>
            <p:cNvPr id="98" name="AutoShape 38"/>
            <p:cNvSpPr/>
            <p:nvPr/>
          </p:nvSpPr>
          <p:spPr>
            <a:xfrm>
              <a:off x="2162160" y="4368600"/>
              <a:ext cx="1906560" cy="496440"/>
            </a:xfrm>
            <a:prstGeom prst="wedgeRoundRectCallout">
              <a:avLst>
                <a:gd name="adj1" fmla="val -64231"/>
                <a:gd name="adj2" fmla="val 636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小括号改变了运算顺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585720" y="4309920"/>
              <a:ext cx="1655640" cy="16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Rectangle 19"/>
          <p:cNvSpPr/>
          <p:nvPr/>
        </p:nvSpPr>
        <p:spPr>
          <a:xfrm>
            <a:off x="5225400" y="2666880"/>
            <a:ext cx="17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0-22÷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684360" y="1700280"/>
            <a:ext cx="7875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幼儿园买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橘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香蕉。买的苹果是橘子和香蕉总千克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算一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来苹果多少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52"/>
          <p:cNvGrpSpPr/>
          <p:nvPr/>
        </p:nvGrpSpPr>
        <p:grpSpPr>
          <a:xfrm>
            <a:off x="250920" y="3022560"/>
            <a:ext cx="4031640" cy="2114280"/>
            <a:chOff x="250920" y="3022560"/>
            <a:chExt cx="4031640" cy="2114280"/>
          </a:xfrm>
        </p:grpSpPr>
        <p:sp>
          <p:nvSpPr>
            <p:cNvPr id="106" name="AutoShape 31"/>
            <p:cNvSpPr/>
            <p:nvPr/>
          </p:nvSpPr>
          <p:spPr>
            <a:xfrm>
              <a:off x="1482480" y="3022560"/>
              <a:ext cx="2800080" cy="575280"/>
            </a:xfrm>
            <a:prstGeom prst="wedgeRoundRectCallout">
              <a:avLst>
                <a:gd name="adj1" fmla="val -57944"/>
                <a:gd name="adj2" fmla="val 860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分步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250920" y="3344760"/>
              <a:ext cx="132192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组合 11"/>
          <p:cNvGrpSpPr/>
          <p:nvPr/>
        </p:nvGrpSpPr>
        <p:grpSpPr>
          <a:xfrm>
            <a:off x="4748040" y="2314440"/>
            <a:ext cx="3811680" cy="2257560"/>
            <a:chOff x="4748040" y="2314440"/>
            <a:chExt cx="3811680" cy="2257560"/>
          </a:xfrm>
        </p:grpSpPr>
        <p:sp>
          <p:nvSpPr>
            <p:cNvPr id="109" name="AutoShape 32"/>
            <p:cNvSpPr/>
            <p:nvPr/>
          </p:nvSpPr>
          <p:spPr>
            <a:xfrm>
              <a:off x="4748040" y="2579400"/>
              <a:ext cx="2632680" cy="496440"/>
            </a:xfrm>
            <a:prstGeom prst="wedgeRoundRectCallout">
              <a:avLst>
                <a:gd name="adj1" fmla="val 58597"/>
                <a:gd name="adj2" fmla="val 130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先算加法，写成一个算式要加小括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164360" y="2314440"/>
              <a:ext cx="139536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19"/>
          <p:cNvSpPr/>
          <p:nvPr/>
        </p:nvSpPr>
        <p:spPr>
          <a:xfrm>
            <a:off x="2040840" y="394668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+28=4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3×2=8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182920" y="3973680"/>
            <a:ext cx="213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+2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3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8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311120" y="5295960"/>
            <a:ext cx="6874200" cy="58140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个算式里，如果有小括号，要先算小括号里面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441440" y="263376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分步算式改成一个综合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2605680" y="376704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+20=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6=2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1274760" y="270180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上面每一算式的得数和每一部分之间的关系开始思考。最后计算的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6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怎么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+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列成综合算式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先算加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乘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要注意计算乘法前加小括号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660760" y="2997360"/>
            <a:ext cx="297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6+20)×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6×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7:54Z</dcterms:modified>
  <cp:revision>377</cp:revision>
  <dc:subject>www.xkb1.com</dc:subject>
  <dc:title>www.xkb1.com</dc:title>
</cp:coreProperties>
</file>